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8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72288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72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94120" y="-360"/>
            <a:ext cx="2975040" cy="490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992160" y="733320"/>
            <a:ext cx="4888080" cy="366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96120" cy="4397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0" y="92822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94120" y="9282240"/>
            <a:ext cx="2975040" cy="490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A9852015-854E-4401-B032-8B6F63F751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92160" y="733320"/>
            <a:ext cx="4888080" cy="366552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96120" cy="4397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bsorção intrínseca (eletrônica e vibração atômica), extrínseca (impureza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spalhamento (transferência de potência de um modo para si ou outros em frequências diferentes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ayle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illouin estimul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aman estimul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13FF-4116-445F-ADDF-98B19FED1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06F2-FF29-4610-AF53-DAC440123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F0C6-23D8-49E4-AD4C-5CF74A53C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A500-74B4-40C6-ABCD-E5892C264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B89B3-32ED-405F-BAEA-297D86451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FDEE7-7765-4300-BDE0-7590D6EC6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BA448-1187-43A2-BC47-E8F89B4B9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CBA23-F090-4CDE-9FCB-D25DD0BC7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26549-778A-4C06-B5D6-FD0BDAD36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E2CE4-580E-45BD-AC8D-7D7F0B046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C1CCC-83E1-4E0B-82FF-44C122DA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91C3-1F22-4106-8751-3C7C697EE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DF90F-BD36-46CD-84FF-0DF2DD15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94300-8A8E-4EE1-9C06-2DE8FFB1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74A5D-1078-4A29-86AF-C0C680BD0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EDB42-0894-4434-AA04-A4F0B1977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8A165-ECFE-4A61-A2CF-899E36134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A23F-0C3B-48DA-B1F6-F83488E9E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435C-F0D6-4D1E-BBCE-6B77F0761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5DD9-9822-4563-B602-14BD4021E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A045-FCB2-4375-8C94-BFD25A9F3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333F-395A-4803-8F0F-7264BEA8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78E7-0D2B-44A9-9305-51A06628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22C4-CCBC-4E61-9F11-E80EED38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F4A1A-AB90-441F-903D-DF50AF56E3D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91535-9F6F-431F-BB5F-B751C34F56C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0066"/>
                </a:solidFill>
                <a:latin typeface="Arial"/>
              </a:rPr>
              <a:t>Fibras Óticas Monomodo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spectos de Projeto de Siste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arcos Portno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Exemplos de Limitaçã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360" y="5516280"/>
            <a:ext cx="82296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Penalidade por dispersão caiu por fator de 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A 3,11Gb/s, a penalidade por dispersão não alcança 2 dB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A 130 Km, a atenuação atinge ≈ 30 dB </a:t>
            </a:r>
            <a:r>
              <a:rPr b="0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700" spc="-1" strike="noStrike" u="sng">
                <a:solidFill>
                  <a:srgbClr val="800000"/>
                </a:solidFill>
                <a:uFillTx/>
                <a:latin typeface="Arial"/>
                <a:ea typeface="Arial"/>
              </a:rPr>
              <a:t>LINK LIMITADO POR ATENUAÇÃ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Dispersion with a Narrow DFB Laser"/>
          <p:cNvPicPr/>
          <p:nvPr/>
        </p:nvPicPr>
        <p:blipFill>
          <a:blip r:embed="rId1"/>
          <a:stretch/>
        </p:blipFill>
        <p:spPr>
          <a:xfrm>
            <a:off x="1762200" y="1413000"/>
            <a:ext cx="5762520" cy="39510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43080" y="1865160"/>
            <a:ext cx="20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aser DFB estre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089480" y="4818240"/>
            <a:ext cx="1989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1550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bra monomodo non-DS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1120" y="3378240"/>
            <a:ext cx="947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enalid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áx:  2 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Exemplos de Limitaçã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8360" y="5516280"/>
            <a:ext cx="82296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Limite de dispersão atingida a 17 km p/ 780 Mb/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Limite de dispersão atingida a 50 km p/ 270 Mb/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A 100 Mb/s, o link é provavelmente </a:t>
            </a:r>
            <a:r>
              <a:rPr b="0" lang="pt-BR" sz="1900" spc="-1" strike="noStrike">
                <a:solidFill>
                  <a:srgbClr val="800000"/>
                </a:solidFill>
                <a:latin typeface="Arial"/>
              </a:rPr>
              <a:t>limitado por atenuaçã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Dispersion with an FP Laser"/>
          <p:cNvPicPr/>
          <p:nvPr/>
        </p:nvPicPr>
        <p:blipFill>
          <a:blip r:embed="rId1"/>
          <a:stretch/>
        </p:blipFill>
        <p:spPr>
          <a:xfrm>
            <a:off x="1979640" y="1413000"/>
            <a:ext cx="5256360" cy="39988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643080" y="1865160"/>
            <a:ext cx="202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aser Fabry-Per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Q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473520" y="5589720"/>
            <a:ext cx="24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800000"/>
                </a:solidFill>
                <a:latin typeface="Arial"/>
              </a:rPr>
              <a:t>Limitado por disper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227640" y="5516640"/>
            <a:ext cx="144720" cy="576360"/>
          </a:xfrm>
          <a:custGeom>
            <a:avLst/>
            <a:gdLst>
              <a:gd name="textAreaLeft" fmla="*/ 0 w 144720"/>
              <a:gd name="textAreaRight" fmla="*/ 52200 w 14472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089480" y="4818240"/>
            <a:ext cx="1989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1550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bra monomodo non-DS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1120" y="3378240"/>
            <a:ext cx="947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enalid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áx:  2 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Compensação da Dispersã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00"/>
                </a:solidFill>
                <a:latin typeface="Arial"/>
              </a:rPr>
              <a:t>Dispersion Compensating Modules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(DC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ispositivos com características de dispersão opostas à do lin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Fibras com curva dispersão vs. comprimento de onda positiva:  (+D) NZ-DSF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Fibras com curva dispersão vs. comprimento de onda negativa:  (-D) NZ-DSF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Fibras tipo </a:t>
            </a:r>
            <a:r>
              <a:rPr b="0" i="1" lang="pt-BR" sz="2300" spc="-1" strike="noStrike">
                <a:solidFill>
                  <a:srgbClr val="000000"/>
                </a:solidFill>
                <a:latin typeface="Arial"/>
              </a:rPr>
              <a:t>Bragg Grating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94800" y="6005520"/>
            <a:ext cx="42116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CF –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Dispersion Compensating Fi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356000" y="5229360"/>
            <a:ext cx="360360" cy="647640"/>
          </a:xfrm>
          <a:prstGeom prst="upArrow">
            <a:avLst>
              <a:gd name="adj1" fmla="val 50000"/>
              <a:gd name="adj2" fmla="val 4493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57400" y="4005360"/>
            <a:ext cx="65016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 0 C 0 0.01968 0 0.03959 0 0.06111 C 0 0.08264 -0.00191 0.10672 0 0.12963 C 0.00191 0.15255 0.00364 0.17662 0.01111 0.19815 C 0.01857 0.21968 0.02899 0.24445 0.04444 0.25926 C 0.05989 0.27408 0.08403 0.28172 0.10416 0.28704 C 0.1243 0.29236 0.14219 0.28982 0.16528 0.29074 C 0.18837 0.29167 0.23003 0.29236 0.24305 0.2926 E">
                                      <p:cBhvr>
                                        <p:cTn id="112" dur="2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500"/>
                            </p:stCondLst>
                            <p:childTnLst>
                              <p:par>
                                <p:cTn id="12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50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0066"/>
                </a:solidFill>
                <a:latin typeface="Arial"/>
              </a:rPr>
              <a:t>Fibras (-D) NZ-DSF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6624720" cy="41814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1265400" y="6021360"/>
            <a:ext cx="63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ibra com curva de dispersão negativa “comprime” os pul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0066"/>
                </a:solidFill>
                <a:latin typeface="Arial"/>
              </a:rPr>
              <a:t>Fibras (+D) NZ-DSF e (-D) NZ-DSF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65" name="" descr="Comparison of Single-mode Fiber Types"/>
          <p:cNvPicPr/>
          <p:nvPr/>
        </p:nvPicPr>
        <p:blipFill>
          <a:blip r:embed="rId1"/>
          <a:stretch/>
        </p:blipFill>
        <p:spPr>
          <a:xfrm>
            <a:off x="539640" y="1916280"/>
            <a:ext cx="3811680" cy="33922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Alternating (+D) NZ-DSF Fiber and (-D) NZ-DSF Fiber"/>
          <p:cNvPicPr/>
          <p:nvPr/>
        </p:nvPicPr>
        <p:blipFill>
          <a:blip r:embed="rId2"/>
          <a:stretch/>
        </p:blipFill>
        <p:spPr>
          <a:xfrm>
            <a:off x="4500720" y="1989000"/>
            <a:ext cx="4248000" cy="334656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4936320" y="5608800"/>
            <a:ext cx="395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ances alternados de fibras +D e –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ispersão média baix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Fibras </a:t>
            </a:r>
            <a:r>
              <a:rPr b="1" i="1" lang="pt-BR" sz="3900" spc="-1" strike="noStrike">
                <a:solidFill>
                  <a:srgbClr val="330066"/>
                </a:solidFill>
                <a:latin typeface="Arial"/>
              </a:rPr>
              <a:t>Bragg Grating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Desenhos especiais confeccionados na fibra, as 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</a:rPr>
              <a:t>grades de Bragg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, refletem freqüências diferentes em pontos distintos ao longo do comprimento da fib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Introduz atrasos diferentes para cada freqüê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Usada geralmente em conjunto com 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</a:rPr>
              <a:t>circulado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5567400" y="1557360"/>
            <a:ext cx="2784600" cy="210348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3348000" y="191628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3348000" y="5732640"/>
            <a:ext cx="4824360" cy="8841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2843280" y="4579920"/>
            <a:ext cx="5832360" cy="7365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50360" y="2584440"/>
            <a:ext cx="17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Bragg Gra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71960" y="530064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Circul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-13320" y="6448320"/>
            <a:ext cx="337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ttp://rleweb.mit.edu/Publications/pr144/23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ttp://www.orc.soton.ac.uk/spm/research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Bragg Grating"/>
          <p:cNvPicPr/>
          <p:nvPr/>
        </p:nvPicPr>
        <p:blipFill>
          <a:blip r:embed="rId1"/>
          <a:stretch/>
        </p:blipFill>
        <p:spPr>
          <a:xfrm>
            <a:off x="2122560" y="2060640"/>
            <a:ext cx="4402080" cy="334800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5003640" y="3933720"/>
            <a:ext cx="72072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916360" y="3933720"/>
            <a:ext cx="79200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Compensação da Dispersão com Fibras </a:t>
            </a:r>
            <a:r>
              <a:rPr b="1" i="1" lang="pt-BR" sz="3900" spc="-1" strike="noStrike">
                <a:solidFill>
                  <a:srgbClr val="330066"/>
                </a:solidFill>
                <a:latin typeface="Arial"/>
              </a:rPr>
              <a:t>Bragg Grating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2124000" y="4221000"/>
            <a:ext cx="647640" cy="578160"/>
            <a:chOff x="2124000" y="4221000"/>
            <a:chExt cx="647640" cy="578160"/>
          </a:xfrm>
        </p:grpSpPr>
        <p:sp>
          <p:nvSpPr>
            <p:cNvPr id="282" name=""/>
            <p:cNvSpPr/>
            <p:nvPr/>
          </p:nvSpPr>
          <p:spPr>
            <a:xfrm>
              <a:off x="2124000" y="4221000"/>
              <a:ext cx="503280" cy="289080"/>
            </a:xfrm>
            <a:prstGeom prst="rightArrow">
              <a:avLst>
                <a:gd name="adj1" fmla="val 50000"/>
                <a:gd name="adj2" fmla="val 43524"/>
              </a:avLst>
            </a:prstGeom>
            <a:solidFill>
              <a:srgbClr val="8000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195640" y="4510080"/>
              <a:ext cx="576000" cy="289080"/>
            </a:xfrm>
            <a:prstGeom prst="rightArrow">
              <a:avLst>
                <a:gd name="adj1" fmla="val 50000"/>
                <a:gd name="adj2" fmla="val 49813"/>
              </a:avLst>
            </a:prstGeom>
            <a:solidFill>
              <a:srgbClr val="ff66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"/>
          <p:cNvSpPr/>
          <p:nvPr/>
        </p:nvSpPr>
        <p:spPr>
          <a:xfrm rot="16200000">
            <a:off x="4033080" y="4185000"/>
            <a:ext cx="502920" cy="288720"/>
          </a:xfrm>
          <a:prstGeom prst="rightArrow">
            <a:avLst>
              <a:gd name="adj1" fmla="val 50000"/>
              <a:gd name="adj2" fmla="val 43547"/>
            </a:avLst>
          </a:prstGeom>
          <a:solidFill>
            <a:srgbClr val="8000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rot="16200000">
            <a:off x="4283640" y="4077000"/>
            <a:ext cx="576360" cy="288720"/>
          </a:xfrm>
          <a:prstGeom prst="rightArrow">
            <a:avLst>
              <a:gd name="adj1" fmla="val 50000"/>
              <a:gd name="adj2" fmla="val 49906"/>
            </a:avLst>
          </a:prstGeom>
          <a:solidFill>
            <a:srgbClr val="ff66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4572000" y="4221000"/>
            <a:ext cx="503280" cy="576360"/>
            <a:chOff x="4572000" y="4221000"/>
            <a:chExt cx="503280" cy="576360"/>
          </a:xfrm>
        </p:grpSpPr>
        <p:sp>
          <p:nvSpPr>
            <p:cNvPr id="287" name=""/>
            <p:cNvSpPr/>
            <p:nvPr/>
          </p:nvSpPr>
          <p:spPr>
            <a:xfrm>
              <a:off x="4572000" y="4221000"/>
              <a:ext cx="503280" cy="289080"/>
            </a:xfrm>
            <a:prstGeom prst="rightArrow">
              <a:avLst>
                <a:gd name="adj1" fmla="val 50000"/>
                <a:gd name="adj2" fmla="val 43524"/>
              </a:avLst>
            </a:prstGeom>
            <a:solidFill>
              <a:srgbClr val="8000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572000" y="4510080"/>
              <a:ext cx="503280" cy="287280"/>
            </a:xfrm>
            <a:prstGeom prst="rightArrow">
              <a:avLst>
                <a:gd name="adj1" fmla="val 50000"/>
                <a:gd name="adj2" fmla="val 43797"/>
              </a:avLst>
            </a:prstGeom>
            <a:solidFill>
              <a:srgbClr val="ff66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"/>
          <p:cNvSpPr/>
          <p:nvPr/>
        </p:nvSpPr>
        <p:spPr>
          <a:xfrm rot="5400000">
            <a:off x="4033080" y="3393360"/>
            <a:ext cx="503280" cy="288720"/>
          </a:xfrm>
          <a:prstGeom prst="rightArrow">
            <a:avLst>
              <a:gd name="adj1" fmla="val 50000"/>
              <a:gd name="adj2" fmla="val 43579"/>
            </a:avLst>
          </a:prstGeom>
          <a:solidFill>
            <a:srgbClr val="8000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rot="5400000">
            <a:off x="4284000" y="2420280"/>
            <a:ext cx="576000" cy="28872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ff66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2124000" y="4221000"/>
            <a:ext cx="647640" cy="578160"/>
            <a:chOff x="2124000" y="4221000"/>
            <a:chExt cx="647640" cy="578160"/>
          </a:xfrm>
        </p:grpSpPr>
        <p:sp>
          <p:nvSpPr>
            <p:cNvPr id="292" name=""/>
            <p:cNvSpPr/>
            <p:nvPr/>
          </p:nvSpPr>
          <p:spPr>
            <a:xfrm>
              <a:off x="2124000" y="4221000"/>
              <a:ext cx="503280" cy="289080"/>
            </a:xfrm>
            <a:prstGeom prst="rightArrow">
              <a:avLst>
                <a:gd name="adj1" fmla="val 50000"/>
                <a:gd name="adj2" fmla="val 43524"/>
              </a:avLst>
            </a:prstGeom>
            <a:solidFill>
              <a:srgbClr val="8000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195640" y="4510080"/>
              <a:ext cx="576000" cy="289080"/>
            </a:xfrm>
            <a:prstGeom prst="rightArrow">
              <a:avLst>
                <a:gd name="adj1" fmla="val 50000"/>
                <a:gd name="adj2" fmla="val 49813"/>
              </a:avLst>
            </a:prstGeom>
            <a:solidFill>
              <a:srgbClr val="ff66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"/>
          <p:cNvSpPr/>
          <p:nvPr/>
        </p:nvSpPr>
        <p:spPr>
          <a:xfrm rot="16200000">
            <a:off x="4033080" y="4185000"/>
            <a:ext cx="502920" cy="288720"/>
          </a:xfrm>
          <a:prstGeom prst="rightArrow">
            <a:avLst>
              <a:gd name="adj1" fmla="val 50000"/>
              <a:gd name="adj2" fmla="val 43547"/>
            </a:avLst>
          </a:prstGeom>
          <a:solidFill>
            <a:srgbClr val="8000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4283640" y="4077000"/>
            <a:ext cx="576360" cy="288720"/>
          </a:xfrm>
          <a:prstGeom prst="rightArrow">
            <a:avLst>
              <a:gd name="adj1" fmla="val 50000"/>
              <a:gd name="adj2" fmla="val 49906"/>
            </a:avLst>
          </a:prstGeom>
          <a:solidFill>
            <a:srgbClr val="ff66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4572000" y="4221000"/>
            <a:ext cx="503280" cy="576360"/>
            <a:chOff x="4572000" y="4221000"/>
            <a:chExt cx="503280" cy="576360"/>
          </a:xfrm>
        </p:grpSpPr>
        <p:sp>
          <p:nvSpPr>
            <p:cNvPr id="297" name=""/>
            <p:cNvSpPr/>
            <p:nvPr/>
          </p:nvSpPr>
          <p:spPr>
            <a:xfrm>
              <a:off x="4572000" y="4221000"/>
              <a:ext cx="503280" cy="289080"/>
            </a:xfrm>
            <a:prstGeom prst="rightArrow">
              <a:avLst>
                <a:gd name="adj1" fmla="val 50000"/>
                <a:gd name="adj2" fmla="val 43524"/>
              </a:avLst>
            </a:prstGeom>
            <a:solidFill>
              <a:srgbClr val="8000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72000" y="4510080"/>
              <a:ext cx="503280" cy="287280"/>
            </a:xfrm>
            <a:prstGeom prst="rightArrow">
              <a:avLst>
                <a:gd name="adj1" fmla="val 50000"/>
                <a:gd name="adj2" fmla="val 43797"/>
              </a:avLst>
            </a:prstGeom>
            <a:solidFill>
              <a:srgbClr val="ff66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"/>
          <p:cNvSpPr/>
          <p:nvPr/>
        </p:nvSpPr>
        <p:spPr>
          <a:xfrm rot="5400000">
            <a:off x="4033080" y="3393360"/>
            <a:ext cx="503280" cy="288720"/>
          </a:xfrm>
          <a:prstGeom prst="rightArrow">
            <a:avLst>
              <a:gd name="adj1" fmla="val 50000"/>
              <a:gd name="adj2" fmla="val 43579"/>
            </a:avLst>
          </a:prstGeom>
          <a:solidFill>
            <a:srgbClr val="8000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rot="5400000">
            <a:off x="4284000" y="2420280"/>
            <a:ext cx="576000" cy="28872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ff66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2124000" y="4221000"/>
            <a:ext cx="647640" cy="578160"/>
            <a:chOff x="2124000" y="4221000"/>
            <a:chExt cx="647640" cy="578160"/>
          </a:xfrm>
        </p:grpSpPr>
        <p:sp>
          <p:nvSpPr>
            <p:cNvPr id="302" name=""/>
            <p:cNvSpPr/>
            <p:nvPr/>
          </p:nvSpPr>
          <p:spPr>
            <a:xfrm>
              <a:off x="2124000" y="4221000"/>
              <a:ext cx="503280" cy="289080"/>
            </a:xfrm>
            <a:prstGeom prst="rightArrow">
              <a:avLst>
                <a:gd name="adj1" fmla="val 50000"/>
                <a:gd name="adj2" fmla="val 43524"/>
              </a:avLst>
            </a:prstGeom>
            <a:solidFill>
              <a:srgbClr val="8000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195640" y="4510080"/>
              <a:ext cx="576000" cy="289080"/>
            </a:xfrm>
            <a:prstGeom prst="rightArrow">
              <a:avLst>
                <a:gd name="adj1" fmla="val 50000"/>
                <a:gd name="adj2" fmla="val 49813"/>
              </a:avLst>
            </a:prstGeom>
            <a:solidFill>
              <a:srgbClr val="ff66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"/>
          <p:cNvSpPr/>
          <p:nvPr/>
        </p:nvSpPr>
        <p:spPr>
          <a:xfrm rot="16200000">
            <a:off x="4033080" y="4185000"/>
            <a:ext cx="502920" cy="288720"/>
          </a:xfrm>
          <a:prstGeom prst="rightArrow">
            <a:avLst>
              <a:gd name="adj1" fmla="val 50000"/>
              <a:gd name="adj2" fmla="val 43547"/>
            </a:avLst>
          </a:prstGeom>
          <a:solidFill>
            <a:srgbClr val="8000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rot="16200000">
            <a:off x="4283640" y="4077000"/>
            <a:ext cx="576360" cy="288720"/>
          </a:xfrm>
          <a:prstGeom prst="rightArrow">
            <a:avLst>
              <a:gd name="adj1" fmla="val 50000"/>
              <a:gd name="adj2" fmla="val 49906"/>
            </a:avLst>
          </a:prstGeom>
          <a:solidFill>
            <a:srgbClr val="ff66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rot="5400000">
            <a:off x="4033080" y="3393360"/>
            <a:ext cx="503280" cy="288720"/>
          </a:xfrm>
          <a:prstGeom prst="rightArrow">
            <a:avLst>
              <a:gd name="adj1" fmla="val 50000"/>
              <a:gd name="adj2" fmla="val 43579"/>
            </a:avLst>
          </a:prstGeom>
          <a:solidFill>
            <a:srgbClr val="8000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rot="5400000">
            <a:off x="4284000" y="2420280"/>
            <a:ext cx="576000" cy="28872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ff66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4572000" y="4221000"/>
            <a:ext cx="503280" cy="576360"/>
            <a:chOff x="4572000" y="4221000"/>
            <a:chExt cx="503280" cy="576360"/>
          </a:xfrm>
        </p:grpSpPr>
        <p:sp>
          <p:nvSpPr>
            <p:cNvPr id="309" name=""/>
            <p:cNvSpPr/>
            <p:nvPr/>
          </p:nvSpPr>
          <p:spPr>
            <a:xfrm>
              <a:off x="4572000" y="4221000"/>
              <a:ext cx="503280" cy="289080"/>
            </a:xfrm>
            <a:prstGeom prst="rightArrow">
              <a:avLst>
                <a:gd name="adj1" fmla="val 50000"/>
                <a:gd name="adj2" fmla="val 43524"/>
              </a:avLst>
            </a:prstGeom>
            <a:solidFill>
              <a:srgbClr val="8000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572000" y="4510080"/>
              <a:ext cx="503280" cy="287280"/>
            </a:xfrm>
            <a:prstGeom prst="rightArrow">
              <a:avLst>
                <a:gd name="adj1" fmla="val 50000"/>
                <a:gd name="adj2" fmla="val 43797"/>
              </a:avLst>
            </a:prstGeom>
            <a:solidFill>
              <a:srgbClr val="ff66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2987640" y="2637000"/>
            <a:ext cx="2664000" cy="2162160"/>
            <a:chOff x="2987640" y="2637000"/>
            <a:chExt cx="2664000" cy="2162160"/>
          </a:xfrm>
        </p:grpSpPr>
        <p:grpSp>
          <p:nvGrpSpPr>
            <p:cNvPr id="312" name=""/>
            <p:cNvGrpSpPr/>
            <p:nvPr/>
          </p:nvGrpSpPr>
          <p:grpSpPr>
            <a:xfrm>
              <a:off x="2987640" y="4221000"/>
              <a:ext cx="647640" cy="578160"/>
              <a:chOff x="2987640" y="4221000"/>
              <a:chExt cx="647640" cy="578160"/>
            </a:xfrm>
          </p:grpSpPr>
          <p:sp>
            <p:nvSpPr>
              <p:cNvPr id="313" name=""/>
              <p:cNvSpPr/>
              <p:nvPr/>
            </p:nvSpPr>
            <p:spPr>
              <a:xfrm>
                <a:off x="2987640" y="4221000"/>
                <a:ext cx="503280" cy="289080"/>
              </a:xfrm>
              <a:prstGeom prst="rightArrow">
                <a:avLst>
                  <a:gd name="adj1" fmla="val 50000"/>
                  <a:gd name="adj2" fmla="val 43524"/>
                </a:avLst>
              </a:prstGeom>
              <a:solidFill>
                <a:srgbClr val="800000">
                  <a:alpha val="8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59280" y="4510080"/>
                <a:ext cx="576000" cy="289080"/>
              </a:xfrm>
              <a:prstGeom prst="rightArrow">
                <a:avLst>
                  <a:gd name="adj1" fmla="val 50000"/>
                  <a:gd name="adj2" fmla="val 49813"/>
                </a:avLst>
              </a:prstGeom>
              <a:solidFill>
                <a:srgbClr val="ff6600">
                  <a:alpha val="8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4284720" y="3429000"/>
              <a:ext cx="503280" cy="647640"/>
            </a:xfrm>
            <a:prstGeom prst="uturnArrow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427640" y="2637000"/>
              <a:ext cx="503280" cy="647640"/>
            </a:xfrm>
            <a:prstGeom prst="uturnArrow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5148360" y="4221000"/>
              <a:ext cx="503280" cy="576360"/>
              <a:chOff x="5148360" y="4221000"/>
              <a:chExt cx="503280" cy="576360"/>
            </a:xfrm>
          </p:grpSpPr>
          <p:sp>
            <p:nvSpPr>
              <p:cNvPr id="318" name=""/>
              <p:cNvSpPr/>
              <p:nvPr/>
            </p:nvSpPr>
            <p:spPr>
              <a:xfrm>
                <a:off x="5148360" y="4221000"/>
                <a:ext cx="503280" cy="289080"/>
              </a:xfrm>
              <a:prstGeom prst="rightArrow">
                <a:avLst>
                  <a:gd name="adj1" fmla="val 50000"/>
                  <a:gd name="adj2" fmla="val 43524"/>
                </a:avLst>
              </a:prstGeom>
              <a:solidFill>
                <a:srgbClr val="800000">
                  <a:alpha val="8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148360" y="4510080"/>
                <a:ext cx="503280" cy="287280"/>
              </a:xfrm>
              <a:prstGeom prst="rightArrow">
                <a:avLst>
                  <a:gd name="adj1" fmla="val 50000"/>
                  <a:gd name="adj2" fmla="val 43797"/>
                </a:avLst>
              </a:prstGeom>
              <a:solidFill>
                <a:srgbClr val="ff6600">
                  <a:alpha val="8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11111E-006 L 0.20868 -0.00023 E">
                                      <p:cBhvr>
                                        <p:cTn id="135" dur="20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36" dur="1" fill="hold">
                                    <p:stCondLst>
                                      <p:cond evt="end">
                                        <p:tn val="134"/>
                                      </p:cond>
                                    </p:stCondLst>
                                  </p:cTn>
                                  <p:tgtEl>
                                    <p:spTgt spid="2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02616 L 3.61111E-006 -0.14699 E">
                                      <p:cBhvr>
                                        <p:cTn id="144" dur="2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45" dur="1" fill="hold">
                                    <p:stCondLst>
                                      <p:cond evt="end">
                                        <p:tn val="143"/>
                                      </p:cond>
                                    </p:stCondLst>
                                  </p:cTn>
                                  <p:tgtEl>
                                    <p:spTgt spid="2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4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0419 L 0 -0.25208 E">
                                      <p:cBhvr>
                                        <p:cTn id="147" dur="2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evt="end">
                                        <p:tn val="146"/>
                                      </p:cond>
                                    </p:stCondLst>
                                  </p:cTn>
                                  <p:tgtEl>
                                    <p:spTgt spid="2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40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1042 L 0 0.30463 E">
                                      <p:cBhvr>
                                        <p:cTn id="156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57" dur="1" fill="hold">
                                    <p:stCondLst>
                                      <p:cond evt="end">
                                        <p:tn val="155"/>
                                      </p:cond>
                                    </p:stCondLst>
                                  </p:cTn>
                                  <p:tgtEl>
                                    <p:spTgt spid="2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5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7.40741E-007 L 3.61111E-006 0.14167 E">
                                      <p:cBhvr>
                                        <p:cTn id="159" dur="20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60" dur="1" fill="hold">
                                    <p:stCondLst>
                                      <p:cond evt="end">
                                        <p:tn val="158"/>
                                      </p:cond>
                                    </p:stCondLst>
                                  </p:cTn>
                                  <p:tgtEl>
                                    <p:spTgt spid="2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60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6000"/>
                            </p:stCondLst>
                            <p:childTnLst>
                              <p:par>
                                <p:cTn id="16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66" dur="2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8000"/>
                            </p:stCondLst>
                            <p:childTnLst>
                              <p:par>
                                <p:cTn id="16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80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8000"/>
                            </p:stCondLst>
                            <p:childTnLst>
                              <p:par>
                                <p:cTn id="17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11111E-006 L 0.20868 -0.00023 E">
                                      <p:cBhvr>
                                        <p:cTn id="175" dur="2000" fill="hold"/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76" dur="1" fill="hold">
                                    <p:stCondLst>
                                      <p:cond evt="end">
                                        <p:tn val="174"/>
                                      </p:cond>
                                    </p:stCondLst>
                                  </p:cTn>
                                  <p:tgtEl>
                                    <p:spTgt spid="2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02616 L 3.61111E-006 -0.14699 E">
                                      <p:cBhvr>
                                        <p:cTn id="184" dur="2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85" dur="1" fill="hold">
                                    <p:stCondLst>
                                      <p:cond evt="end">
                                        <p:tn val="183"/>
                                      </p:cond>
                                    </p:stCondLst>
                                  </p:cTn>
                                  <p:tgtEl>
                                    <p:spTgt spid="2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8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0419 L 0 -0.25208 E">
                                      <p:cBhvr>
                                        <p:cTn id="187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88" dur="1" fill="hold">
                                    <p:stCondLst>
                                      <p:cond evt="end">
                                        <p:tn val="186"/>
                                      </p:cond>
                                    </p:stCondLst>
                                  </p:cTn>
                                  <p:tgtEl>
                                    <p:spTgt spid="2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1042 L 0 0.30463 E">
                                      <p:cBhvr>
                                        <p:cTn id="196" dur="2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97" dur="1" fill="hold">
                                    <p:stCondLst>
                                      <p:cond evt="end">
                                        <p:tn val="195"/>
                                      </p:cond>
                                    </p:stCondLst>
                                  </p:cTn>
                                  <p:tgtEl>
                                    <p:spTgt spid="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9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7.40741E-007 L 3.61111E-006 0.14167 E">
                                      <p:cBhvr>
                                        <p:cTn id="199" dur="2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00" dur="1" fill="hold">
                                    <p:stCondLst>
                                      <p:cond evt="end">
                                        <p:tn val="198"/>
                                      </p:cond>
                                    </p:stCondLst>
                                  </p:cTn>
                                  <p:tgtEl>
                                    <p:spTgt spid="2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06" dur="2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11111E-006 L 0.20868 -0.00023 E">
                                      <p:cBhvr>
                                        <p:cTn id="215" dur="20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16" dur="1" fill="hold">
                                    <p:stCondLst>
                                      <p:cond evt="end">
                                        <p:tn val="214"/>
                                      </p:cond>
                                    </p:stCondLst>
                                  </p:cTn>
                                  <p:tgtEl>
                                    <p:spTgt spid="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8000"/>
                            </p:stCondLst>
                            <p:childTnLst>
                              <p:par>
                                <p:cTn id="22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02616 L 3.61111E-006 -0.14699 E">
                                      <p:cBhvr>
                                        <p:cTn id="224" dur="2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25" dur="1" fill="hold">
                                    <p:stCondLst>
                                      <p:cond evt="end">
                                        <p:tn val="223"/>
                                      </p:cond>
                                    </p:stCondLst>
                                  </p:cTn>
                                  <p:tgtEl>
                                    <p:spTgt spid="3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2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0419 L 0 -0.25208 E">
                                      <p:cBhvr>
                                        <p:cTn id="227" dur="2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28" dur="1" fill="hold">
                                    <p:stCondLst>
                                      <p:cond evt="end">
                                        <p:tn val="226"/>
                                      </p:cond>
                                    </p:stCondLst>
                                  </p:cTn>
                                  <p:tgtEl>
                                    <p:spTgt spid="3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0000"/>
                            </p:stCondLst>
                            <p:childTnLst>
                              <p:par>
                                <p:cTn id="23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1042 L 0 0.30463 E">
                                      <p:cBhvr>
                                        <p:cTn id="236" dur="2000" fill="hold"/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37" dur="1" fill="hold">
                                    <p:stCondLst>
                                      <p:cond evt="end">
                                        <p:tn val="235"/>
                                      </p:cond>
                                    </p:stCondLst>
                                  </p:cTn>
                                  <p:tgtEl>
                                    <p:spTgt spid="3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3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7.40741E-007 L 3.61111E-006 0.14167 E">
                                      <p:cBhvr>
                                        <p:cTn id="239" dur="2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40" dur="1" fill="hold">
                                    <p:stCondLst>
                                      <p:cond evt="end">
                                        <p:tn val="238"/>
                                      </p:cond>
                                    </p:stCondLst>
                                  </p:cTn>
                                  <p:tgtEl>
                                    <p:spTgt spid="3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20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2000"/>
                            </p:stCondLst>
                            <p:childTnLst>
                              <p:par>
                                <p:cTn id="24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46" dur="2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4000"/>
                            </p:stCondLst>
                            <p:childTnLst>
                              <p:par>
                                <p:cTn id="2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400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Referênci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COOMBE, Andrew. 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Optical fiber technology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[online].  Disponível em:  &l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ttp://www.atmforum.com/meetings/Corning.pdf&gt;.  Acesso em:  12 outubro 2003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FORCE, Inc.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he Effects of Dispersion on High-speed Fiber Optic Data Transmission: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ber Bandwidth isn't Infinite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[online].  Disponível em:  &lt;www.fiber-optics.info/articles/dispersion.htm&gt;.  Acesso em:  10 outubro 2003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GIOZZA, William F. et al. 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Fibras Ópticas –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tecnologia e projeto de sistemas. São Paulo:  Makron Books – McGraw-Hill, 1991, p. 117-126, 531-536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INTEGRATED PUBLISHING. 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Chromatic dispersion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[online].  Disponível em:  &l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ttp://www.tpub.com/neets/tm/109-6.htm&gt;.  Acesso em:  12 outubro 2003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RAMASWAMI, Rajiv; SIVARAJAN, Kumar N. 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Optical Networks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– a practical perspective.  2. ed. London:  Academic Press, 2002, p. 283 a 382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Tópicos de Projeto Abordad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Limitaçõ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tenuaçã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ispersão Cromát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Cálculo da dispersã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Penalidade de dispersã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Compensação da Dispersã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Módulos de Compensação de Dispersão (DC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Limitações da Fibra Ótic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Atenuação (dB/K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erda de potência do sin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ausas principai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Absorçã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Espalhament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enuação máxima (projeto):  30d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44360" y="4898880"/>
            <a:ext cx="8891640" cy="1482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63" name=""/>
          <p:cNvGrpSpPr/>
          <p:nvPr/>
        </p:nvGrpSpPr>
        <p:grpSpPr>
          <a:xfrm>
            <a:off x="3132000" y="5661000"/>
            <a:ext cx="2460600" cy="504720"/>
            <a:chOff x="3132000" y="5661000"/>
            <a:chExt cx="2460600" cy="504720"/>
          </a:xfrm>
        </p:grpSpPr>
        <p:sp>
          <p:nvSpPr>
            <p:cNvPr id="164" name=""/>
            <p:cNvSpPr/>
            <p:nvPr/>
          </p:nvSpPr>
          <p:spPr>
            <a:xfrm>
              <a:off x="3132000" y="5661000"/>
              <a:ext cx="576360" cy="504720"/>
            </a:xfrm>
            <a:prstGeom prst="rightArrow">
              <a:avLst>
                <a:gd name="adj1" fmla="val 50000"/>
                <a:gd name="adj2" fmla="val 28549"/>
              </a:avLst>
            </a:prstGeom>
            <a:solidFill>
              <a:srgbClr val="cccc00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780000" y="5686200"/>
              <a:ext cx="504720" cy="432000"/>
            </a:xfrm>
            <a:prstGeom prst="rightArrow">
              <a:avLst>
                <a:gd name="adj1" fmla="val 50000"/>
                <a:gd name="adj2" fmla="val 29208"/>
              </a:avLst>
            </a:prstGeom>
            <a:solidFill>
              <a:srgbClr val="cccc00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356000" y="5721120"/>
              <a:ext cx="360360" cy="358920"/>
            </a:xfrm>
            <a:prstGeom prst="rightArrow">
              <a:avLst>
                <a:gd name="adj1" fmla="val 50000"/>
                <a:gd name="adj2" fmla="val 25100"/>
              </a:avLst>
            </a:prstGeom>
            <a:solidFill>
              <a:srgbClr val="cccc00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88000" y="5733720"/>
              <a:ext cx="360360" cy="358920"/>
            </a:xfrm>
            <a:prstGeom prst="rightArrow">
              <a:avLst>
                <a:gd name="adj1" fmla="val 50000"/>
                <a:gd name="adj2" fmla="val 25100"/>
              </a:avLst>
            </a:prstGeom>
            <a:solidFill>
              <a:srgbClr val="cccc00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245200" y="5792760"/>
              <a:ext cx="347400" cy="264960"/>
            </a:xfrm>
            <a:prstGeom prst="rightArrow">
              <a:avLst>
                <a:gd name="adj1" fmla="val 50000"/>
                <a:gd name="adj2" fmla="val 32779"/>
              </a:avLst>
            </a:prstGeom>
            <a:solidFill>
              <a:srgbClr val="cccc00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 repeatCount="500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Limitações da Fibra Ótic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31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persão Cromát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argamento” dos puls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mita a quantidade de informação e distância de transmissã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us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ferentes comprimentos de onda viajam a diferentes velocidad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42920" y="5046840"/>
            <a:ext cx="8893080" cy="1622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72" name=""/>
          <p:cNvGrpSpPr/>
          <p:nvPr/>
        </p:nvGrpSpPr>
        <p:grpSpPr>
          <a:xfrm>
            <a:off x="2700360" y="5589720"/>
            <a:ext cx="3095640" cy="576000"/>
            <a:chOff x="2700360" y="5589720"/>
            <a:chExt cx="3095640" cy="576000"/>
          </a:xfrm>
        </p:grpSpPr>
        <p:sp>
          <p:nvSpPr>
            <p:cNvPr id="173" name=""/>
            <p:cNvSpPr/>
            <p:nvPr/>
          </p:nvSpPr>
          <p:spPr>
            <a:xfrm>
              <a:off x="2700360" y="5589720"/>
              <a:ext cx="431640" cy="144360"/>
            </a:xfrm>
            <a:prstGeom prst="rightArrow">
              <a:avLst>
                <a:gd name="adj1" fmla="val 50000"/>
                <a:gd name="adj2" fmla="val 74751"/>
              </a:avLst>
            </a:prstGeom>
            <a:solidFill>
              <a:srgbClr val="8000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700360" y="5734080"/>
              <a:ext cx="431640" cy="144360"/>
            </a:xfrm>
            <a:prstGeom prst="rightArrow">
              <a:avLst>
                <a:gd name="adj1" fmla="val 50000"/>
                <a:gd name="adj2" fmla="val 74751"/>
              </a:avLst>
            </a:prstGeom>
            <a:solidFill>
              <a:srgbClr val="ff66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00360" y="5878440"/>
              <a:ext cx="431640" cy="144360"/>
            </a:xfrm>
            <a:prstGeom prst="rightArrow">
              <a:avLst>
                <a:gd name="adj1" fmla="val 50000"/>
                <a:gd name="adj2" fmla="val 74751"/>
              </a:avLst>
            </a:prstGeom>
            <a:solidFill>
              <a:srgbClr val="ffcc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700360" y="6021360"/>
              <a:ext cx="431640" cy="144360"/>
            </a:xfrm>
            <a:prstGeom prst="rightArrow">
              <a:avLst>
                <a:gd name="adj1" fmla="val 50000"/>
                <a:gd name="adj2" fmla="val 74751"/>
              </a:avLst>
            </a:prstGeom>
            <a:solidFill>
              <a:srgbClr val="339966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132000" y="5878440"/>
              <a:ext cx="432000" cy="144360"/>
            </a:xfrm>
            <a:prstGeom prst="rightArrow">
              <a:avLst>
                <a:gd name="adj1" fmla="val 50000"/>
                <a:gd name="adj2" fmla="val 74813"/>
              </a:avLst>
            </a:prstGeom>
            <a:solidFill>
              <a:srgbClr val="ffcc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5589720"/>
              <a:ext cx="432000" cy="144360"/>
            </a:xfrm>
            <a:prstGeom prst="rightArrow">
              <a:avLst>
                <a:gd name="adj1" fmla="val 50000"/>
                <a:gd name="adj2" fmla="val 74813"/>
              </a:avLst>
            </a:prstGeom>
            <a:solidFill>
              <a:srgbClr val="8000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03640" y="5734080"/>
              <a:ext cx="431640" cy="144360"/>
            </a:xfrm>
            <a:prstGeom prst="rightArrow">
              <a:avLst>
                <a:gd name="adj1" fmla="val 50000"/>
                <a:gd name="adj2" fmla="val 74751"/>
              </a:avLst>
            </a:prstGeom>
            <a:solidFill>
              <a:srgbClr val="ff66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203640" y="6021360"/>
              <a:ext cx="431640" cy="144360"/>
            </a:xfrm>
            <a:prstGeom prst="rightArrow">
              <a:avLst>
                <a:gd name="adj1" fmla="val 50000"/>
                <a:gd name="adj2" fmla="val 74751"/>
              </a:avLst>
            </a:prstGeom>
            <a:solidFill>
              <a:srgbClr val="339966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995640" y="5589720"/>
              <a:ext cx="432000" cy="144360"/>
            </a:xfrm>
            <a:prstGeom prst="rightArrow">
              <a:avLst>
                <a:gd name="adj1" fmla="val 50000"/>
                <a:gd name="adj2" fmla="val 74813"/>
              </a:avLst>
            </a:prstGeom>
            <a:solidFill>
              <a:srgbClr val="8000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780000" y="5734080"/>
              <a:ext cx="431640" cy="144360"/>
            </a:xfrm>
            <a:prstGeom prst="rightArrow">
              <a:avLst>
                <a:gd name="adj1" fmla="val 50000"/>
                <a:gd name="adj2" fmla="val 74751"/>
              </a:avLst>
            </a:prstGeom>
            <a:solidFill>
              <a:srgbClr val="ff66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708360" y="6021360"/>
              <a:ext cx="432000" cy="144360"/>
            </a:xfrm>
            <a:prstGeom prst="rightArrow">
              <a:avLst>
                <a:gd name="adj1" fmla="val 50000"/>
                <a:gd name="adj2" fmla="val 74813"/>
              </a:avLst>
            </a:prstGeom>
            <a:solidFill>
              <a:srgbClr val="339966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635280" y="5877000"/>
              <a:ext cx="432000" cy="144360"/>
            </a:xfrm>
            <a:prstGeom prst="rightArrow">
              <a:avLst>
                <a:gd name="adj1" fmla="val 50000"/>
                <a:gd name="adj2" fmla="val 74813"/>
              </a:avLst>
            </a:prstGeom>
            <a:solidFill>
              <a:srgbClr val="ffcc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645080" y="5589720"/>
              <a:ext cx="431640" cy="144360"/>
            </a:xfrm>
            <a:prstGeom prst="rightArrow">
              <a:avLst>
                <a:gd name="adj1" fmla="val 50000"/>
                <a:gd name="adj2" fmla="val 74751"/>
              </a:avLst>
            </a:prstGeom>
            <a:solidFill>
              <a:srgbClr val="8000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29080" y="5734080"/>
              <a:ext cx="432000" cy="144360"/>
            </a:xfrm>
            <a:prstGeom prst="rightArrow">
              <a:avLst>
                <a:gd name="adj1" fmla="val 50000"/>
                <a:gd name="adj2" fmla="val 74813"/>
              </a:avLst>
            </a:prstGeom>
            <a:solidFill>
              <a:srgbClr val="ff66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357800" y="6021360"/>
              <a:ext cx="431640" cy="144360"/>
            </a:xfrm>
            <a:prstGeom prst="rightArrow">
              <a:avLst>
                <a:gd name="adj1" fmla="val 50000"/>
                <a:gd name="adj2" fmla="val 74751"/>
              </a:avLst>
            </a:prstGeom>
            <a:solidFill>
              <a:srgbClr val="339966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284720" y="5877000"/>
              <a:ext cx="431640" cy="144360"/>
            </a:xfrm>
            <a:prstGeom prst="rightArrow">
              <a:avLst>
                <a:gd name="adj1" fmla="val 50000"/>
                <a:gd name="adj2" fmla="val 74751"/>
              </a:avLst>
            </a:prstGeom>
            <a:solidFill>
              <a:srgbClr val="ffcc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64000" y="5589720"/>
              <a:ext cx="432000" cy="144360"/>
            </a:xfrm>
            <a:prstGeom prst="rightArrow">
              <a:avLst>
                <a:gd name="adj1" fmla="val 50000"/>
                <a:gd name="adj2" fmla="val 74813"/>
              </a:avLst>
            </a:prstGeom>
            <a:solidFill>
              <a:srgbClr val="8000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076720" y="5734080"/>
              <a:ext cx="432000" cy="144360"/>
            </a:xfrm>
            <a:prstGeom prst="rightArrow">
              <a:avLst>
                <a:gd name="adj1" fmla="val 50000"/>
                <a:gd name="adj2" fmla="val 74813"/>
              </a:avLst>
            </a:prstGeom>
            <a:solidFill>
              <a:srgbClr val="ff66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03640" y="6021360"/>
              <a:ext cx="432000" cy="144360"/>
            </a:xfrm>
            <a:prstGeom prst="rightArrow">
              <a:avLst>
                <a:gd name="adj1" fmla="val 50000"/>
                <a:gd name="adj2" fmla="val 74813"/>
              </a:avLst>
            </a:prstGeom>
            <a:solidFill>
              <a:srgbClr val="339966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32360" y="5877000"/>
              <a:ext cx="431640" cy="144360"/>
            </a:xfrm>
            <a:prstGeom prst="rightArrow">
              <a:avLst>
                <a:gd name="adj1" fmla="val 50000"/>
                <a:gd name="adj2" fmla="val 74751"/>
              </a:avLst>
            </a:prstGeom>
            <a:solidFill>
              <a:srgbClr val="ffcc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6804000" y="4724280"/>
            <a:ext cx="216000" cy="289080"/>
          </a:xfrm>
          <a:prstGeom prst="downArrow">
            <a:avLst>
              <a:gd name="adj1" fmla="val 50000"/>
              <a:gd name="adj2" fmla="val 3345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2" presetSubtype="8" repeatCount="500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Single-mode Fiber Dispersion"/>
          <p:cNvPicPr/>
          <p:nvPr/>
        </p:nvPicPr>
        <p:blipFill>
          <a:blip r:embed="rId1"/>
          <a:stretch/>
        </p:blipFill>
        <p:spPr>
          <a:xfrm>
            <a:off x="250920" y="1700280"/>
            <a:ext cx="4681440" cy="39114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0066"/>
                </a:solidFill>
                <a:latin typeface="Arial"/>
              </a:rPr>
              <a:t>Dispersão vs. Comprimento de Onda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14080" y="6329520"/>
            <a:ext cx="304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ibra Corning SMF-28 CPC3 (monomod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Equation to Calculate Dispersion"/>
          <p:cNvPicPr/>
          <p:nvPr/>
        </p:nvPicPr>
        <p:blipFill>
          <a:blip r:embed="rId2"/>
          <a:stretch/>
        </p:blipFill>
        <p:spPr>
          <a:xfrm>
            <a:off x="4284720" y="5229360"/>
            <a:ext cx="468612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Dispersão:  Penalidade de Potênci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Efeito na potência recebida causado pela dispersão (dB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Função d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Largura espectral da fonte lumino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ispersão da fibra [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f(</a:t>
            </a:r>
            <a:r>
              <a:rPr b="0" i="1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inal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omprimento da fib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BER (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Bit Error Rate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) [10</a:t>
            </a:r>
            <a:r>
              <a:rPr b="0" lang="pt-BR" sz="2600" spc="-1" strike="noStrike" baseline="30000">
                <a:solidFill>
                  <a:srgbClr val="000000"/>
                </a:solidFill>
                <a:latin typeface="Arial"/>
              </a:rPr>
              <a:t>-15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; 10</a:t>
            </a:r>
            <a:r>
              <a:rPr b="0" lang="pt-BR" sz="26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Normalmente, penalidade máxima é da ordem de 2 d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Optical Link Loss Budge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Balanço de perdas do link ót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álculo que considera as várias perdas devidas aos componentes da transmissã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x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Variação de potência da fonte lumino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emperatu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coplamento ót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nect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tenuaç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ispers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ensibilidade do recep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Optical Link Loss Budge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8000" y="1844640"/>
            <a:ext cx="8136000" cy="3233880"/>
          </a:xfrm>
          <a:prstGeom prst="rect">
            <a:avLst/>
          </a:prstGeom>
          <a:ln w="0">
            <a:noFill/>
          </a:ln>
        </p:spPr>
      </p:pic>
      <p:grpSp>
        <p:nvGrpSpPr>
          <p:cNvPr id="204" name=""/>
          <p:cNvGrpSpPr/>
          <p:nvPr/>
        </p:nvGrpSpPr>
        <p:grpSpPr>
          <a:xfrm>
            <a:off x="724680" y="5157720"/>
            <a:ext cx="1966680" cy="1215720"/>
            <a:chOff x="724680" y="5157720"/>
            <a:chExt cx="1966680" cy="1215720"/>
          </a:xfrm>
        </p:grpSpPr>
        <p:sp>
          <p:nvSpPr>
            <p:cNvPr id="205" name=""/>
            <p:cNvSpPr/>
            <p:nvPr/>
          </p:nvSpPr>
          <p:spPr>
            <a:xfrm>
              <a:off x="724680" y="5730840"/>
              <a:ext cx="1966680" cy="642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variação potênc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transmiss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548000" y="5157720"/>
              <a:ext cx="142920" cy="503280"/>
            </a:xfrm>
            <a:prstGeom prst="upArrow">
              <a:avLst>
                <a:gd name="adj1" fmla="val 50000"/>
                <a:gd name="adj2" fmla="val 88035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483920" y="5084640"/>
            <a:ext cx="1410480" cy="892440"/>
            <a:chOff x="1483920" y="5084640"/>
            <a:chExt cx="1410480" cy="892440"/>
          </a:xfrm>
        </p:grpSpPr>
        <p:sp>
          <p:nvSpPr>
            <p:cNvPr id="208" name=""/>
            <p:cNvSpPr/>
            <p:nvPr/>
          </p:nvSpPr>
          <p:spPr>
            <a:xfrm>
              <a:off x="1483920" y="5608800"/>
              <a:ext cx="1410480" cy="368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temperatu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124000" y="5084640"/>
              <a:ext cx="142920" cy="503280"/>
            </a:xfrm>
            <a:prstGeom prst="upArrow">
              <a:avLst>
                <a:gd name="adj1" fmla="val 50000"/>
                <a:gd name="adj2" fmla="val 88035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2891880" y="5068800"/>
            <a:ext cx="953280" cy="944640"/>
            <a:chOff x="2891880" y="5068800"/>
            <a:chExt cx="953280" cy="944640"/>
          </a:xfrm>
        </p:grpSpPr>
        <p:sp>
          <p:nvSpPr>
            <p:cNvPr id="211" name=""/>
            <p:cNvSpPr/>
            <p:nvPr/>
          </p:nvSpPr>
          <p:spPr>
            <a:xfrm>
              <a:off x="2891880" y="5645160"/>
              <a:ext cx="953280" cy="368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vida úti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276720" y="5068800"/>
              <a:ext cx="142560" cy="503280"/>
            </a:xfrm>
            <a:prstGeom prst="upArrow">
              <a:avLst>
                <a:gd name="adj1" fmla="val 50000"/>
                <a:gd name="adj2" fmla="val 88258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071800" y="5084640"/>
            <a:ext cx="1485360" cy="1449360"/>
            <a:chOff x="2071800" y="5084640"/>
            <a:chExt cx="1485360" cy="1449360"/>
          </a:xfrm>
        </p:grpSpPr>
        <p:sp>
          <p:nvSpPr>
            <p:cNvPr id="214" name=""/>
            <p:cNvSpPr/>
            <p:nvPr/>
          </p:nvSpPr>
          <p:spPr>
            <a:xfrm>
              <a:off x="2071800" y="6165720"/>
              <a:ext cx="1485360" cy="368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acoplamen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700360" y="5084640"/>
              <a:ext cx="144360" cy="1008360"/>
            </a:xfrm>
            <a:prstGeom prst="upArrow">
              <a:avLst>
                <a:gd name="adj1" fmla="val 50000"/>
                <a:gd name="adj2" fmla="val 174626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357000" y="5068800"/>
            <a:ext cx="1296360" cy="1089000"/>
            <a:chOff x="3357000" y="5068800"/>
            <a:chExt cx="1296360" cy="1089000"/>
          </a:xfrm>
        </p:grpSpPr>
        <p:sp>
          <p:nvSpPr>
            <p:cNvPr id="217" name=""/>
            <p:cNvSpPr/>
            <p:nvPr/>
          </p:nvSpPr>
          <p:spPr>
            <a:xfrm>
              <a:off x="3357000" y="5789520"/>
              <a:ext cx="1296360" cy="368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conect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924360" y="5068800"/>
              <a:ext cx="144000" cy="647640"/>
            </a:xfrm>
            <a:prstGeom prst="upArrow">
              <a:avLst>
                <a:gd name="adj1" fmla="val 50000"/>
                <a:gd name="adj2" fmla="val 112438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860640" y="5068800"/>
            <a:ext cx="1244520" cy="944640"/>
            <a:chOff x="3860640" y="5068800"/>
            <a:chExt cx="1244520" cy="944640"/>
          </a:xfrm>
        </p:grpSpPr>
        <p:sp>
          <p:nvSpPr>
            <p:cNvPr id="220" name=""/>
            <p:cNvSpPr/>
            <p:nvPr/>
          </p:nvSpPr>
          <p:spPr>
            <a:xfrm>
              <a:off x="3860640" y="5645160"/>
              <a:ext cx="1244520" cy="368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atenuaçã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29080" y="5068800"/>
              <a:ext cx="142920" cy="503280"/>
            </a:xfrm>
            <a:prstGeom prst="upArrow">
              <a:avLst>
                <a:gd name="adj1" fmla="val 50000"/>
                <a:gd name="adj2" fmla="val 88035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4436640" y="5083200"/>
            <a:ext cx="1410480" cy="1650600"/>
            <a:chOff x="4436640" y="5083200"/>
            <a:chExt cx="1410480" cy="1650600"/>
          </a:xfrm>
        </p:grpSpPr>
        <p:sp>
          <p:nvSpPr>
            <p:cNvPr id="223" name=""/>
            <p:cNvSpPr/>
            <p:nvPr/>
          </p:nvSpPr>
          <p:spPr>
            <a:xfrm>
              <a:off x="4436640" y="6091200"/>
              <a:ext cx="1410480" cy="642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efeitos 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temperatu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005440" y="5083200"/>
              <a:ext cx="144360" cy="936720"/>
            </a:xfrm>
            <a:prstGeom prst="upArrow">
              <a:avLst>
                <a:gd name="adj1" fmla="val 50000"/>
                <a:gd name="adj2" fmla="val 162219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4942080" y="5083200"/>
            <a:ext cx="1485360" cy="1217160"/>
            <a:chOff x="4942080" y="5083200"/>
            <a:chExt cx="1485360" cy="1217160"/>
          </a:xfrm>
        </p:grpSpPr>
        <p:sp>
          <p:nvSpPr>
            <p:cNvPr id="226" name=""/>
            <p:cNvSpPr/>
            <p:nvPr/>
          </p:nvSpPr>
          <p:spPr>
            <a:xfrm>
              <a:off x="4942080" y="5657760"/>
              <a:ext cx="1485360" cy="642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acoplamen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ao recep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581440" y="5083200"/>
              <a:ext cx="142920" cy="503280"/>
            </a:xfrm>
            <a:prstGeom prst="upArrow">
              <a:avLst>
                <a:gd name="adj1" fmla="val 50000"/>
                <a:gd name="adj2" fmla="val 88035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661360" y="5084640"/>
            <a:ext cx="2526120" cy="1431720"/>
            <a:chOff x="5661360" y="5084640"/>
            <a:chExt cx="2526120" cy="1431720"/>
          </a:xfrm>
        </p:grpSpPr>
        <p:sp>
          <p:nvSpPr>
            <p:cNvPr id="229" name=""/>
            <p:cNvSpPr/>
            <p:nvPr/>
          </p:nvSpPr>
          <p:spPr>
            <a:xfrm>
              <a:off x="5661360" y="5873760"/>
              <a:ext cx="2526120" cy="642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margem de segurança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reparos, emen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661080" y="5084640"/>
              <a:ext cx="144360" cy="720720"/>
            </a:xfrm>
            <a:prstGeom prst="upArrow">
              <a:avLst>
                <a:gd name="adj1" fmla="val 50000"/>
                <a:gd name="adj2" fmla="val 124813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7742160" y="2832120"/>
            <a:ext cx="85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-5,5dB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741800" y="4797360"/>
            <a:ext cx="9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-31,5dB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317440" y="3759120"/>
            <a:ext cx="6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26 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604360" y="314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604360" y="4029120"/>
            <a:ext cx="0" cy="76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4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Exemplos de Limitaçã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68360" y="5516280"/>
            <a:ext cx="82296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Máxima distância a 3.11Gb/s = 85 K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=1550nm =&gt; atenuação ≈ 20d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20dB &lt; Máx. (30dB) </a:t>
            </a:r>
            <a:r>
              <a:rPr b="0" lang="en-US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100" spc="-1" strike="noStrike" u="sng">
                <a:solidFill>
                  <a:srgbClr val="800000"/>
                </a:solidFill>
                <a:uFillTx/>
                <a:latin typeface="Arial"/>
                <a:ea typeface="Arial"/>
              </a:rPr>
              <a:t>LINK LIMITADO POR DISPERSÃ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Dispersion with a Normal DFB Laser"/>
          <p:cNvPicPr/>
          <p:nvPr/>
        </p:nvPicPr>
        <p:blipFill>
          <a:blip r:embed="rId1"/>
          <a:stretch/>
        </p:blipFill>
        <p:spPr>
          <a:xfrm>
            <a:off x="1763640" y="1413000"/>
            <a:ext cx="5327640" cy="40035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6642720" y="186516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aser DF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089480" y="4818240"/>
            <a:ext cx="1989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1550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bra monomodo non-DS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21120" y="3378240"/>
            <a:ext cx="947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enalid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áx:  2 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2T23:39:23Z</dcterms:created>
  <dc:creator>Marcos Portnoi</dc:creator>
  <dc:description/>
  <dc:language>en-US</dc:language>
  <cp:lastModifiedBy>Marcos Portnoi</cp:lastModifiedBy>
  <dcterms:modified xsi:type="dcterms:W3CDTF">2003-10-14T20:14:09Z</dcterms:modified>
  <cp:revision>46</cp:revision>
  <dc:subject/>
  <dc:title>Fibras Óticas:  aspectos de projeto de sistema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